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Школа" initials="Ш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8-02-21T10:25:31.422000000" idx="1">
    <p:pos x="3571" y="19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5BE-891B-4CC6-A77D-02A292D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723-0B4D-4607-A3D3-1FA434F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FB3-B451-4AD8-ACB5-0243CFC9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0D1-5280-4FA0-B40C-9AE37540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20E-843F-4872-9387-B09ACF30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14C-A3C4-425F-86D9-B03EA85F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A2C-F200-4BA8-AC1B-856A8591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547-F028-475E-8037-1457F334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6C8-3A33-49F6-8EE2-3962181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0DC-B6D8-4159-A710-2926F8D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6F4-C0BA-4475-9B5E-91715A9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3B6-A68C-4DFE-9D4C-D4B8FC77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0806-9641-45CE-8F67-102F9A378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979640" y="-1022760"/>
            <a:ext cx="6450120" cy="65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инация - «военная истор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Чтобы помнил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а: Унисихина 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ца 11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Туб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улов Александр Романович (т.4 стр.465 книга Памяти), уроженец села Новоивановка  Краснотуранского района, а по документам, выставленным на сайте Мемориал, проживал в с. Салба Краснотуранского района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амятнике фамилия отсутствует, но данные есть в «Книге Памя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63640" y="1989000"/>
          <a:ext cx="6588360" cy="3838680"/>
        </p:xfrm>
        <a:graphic>
          <a:graphicData uri="http://schemas.openxmlformats.org/drawingml/2006/table">
            <a:tbl>
              <a:tblPr/>
              <a:tblGrid>
                <a:gridCol w="1731960"/>
                <a:gridCol w="3124440"/>
                <a:gridCol w="1731960"/>
              </a:tblGrid>
              <a:tr h="1026720">
                <a:tc>
                  <a:txBody>
                    <a:bodyPr lIns="120240" rIns="120240" tIns="39960" bIns="399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рождения/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_.__.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0240" rIns="120240" tIns="39960" bIns="39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4680">
                <a:tc>
                  <a:txBody>
                    <a:bodyPr lIns="120240" rIns="120240" tIns="39960" bIns="399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и место призы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__.1940 Краснотуранский РВК, Красноярский край, Краснотуранский р-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0240" rIns="120240" tIns="39960" bIns="39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1000">
                <a:tc>
                  <a:txBody>
                    <a:bodyPr lIns="120240" rIns="120240" tIns="39960" bIns="399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инское 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ж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0240" rIns="120240" tIns="39960" bIns="39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1000">
                <a:tc>
                  <a:txBody>
                    <a:bodyPr lIns="120240" rIns="120240" tIns="39960" bIns="399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л без в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0240" rIns="120240" tIns="39960" bIns="39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640">
                <a:tc>
                  <a:txBody>
                    <a:bodyPr lIns="120240" rIns="120240" tIns="39960" bIns="399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07.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0240" rIns="120240" tIns="39960" bIns="399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0240" marR="120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1" name="Rectangle 1"/>
          <p:cNvSpPr/>
          <p:nvPr/>
        </p:nvSpPr>
        <p:spPr>
          <a:xfrm>
            <a:off x="826920" y="5839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заренко Иван Митрофанович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памятнике отсутствует имя, уроженец с. Новоивановка Краснотура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1280" y="12790440"/>
          <a:ext cx="3960720" cy="9194760"/>
        </p:xfrm>
        <a:graphic>
          <a:graphicData uri="http://schemas.openxmlformats.org/drawingml/2006/table">
            <a:tbl>
              <a:tblPr/>
              <a:tblGrid>
                <a:gridCol w="592200"/>
                <a:gridCol w="591840"/>
                <a:gridCol w="2776680"/>
              </a:tblGrid>
              <a:tr h="649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рождения :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22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ий край, Краснотуранский р-н, Тублинск м/совх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1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и место призы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туранский РВК, Красноярский край, Краснотуранский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днее место служ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9 с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инское з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вы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л без ве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вы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9.19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выб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ежская обл., Острогожский р-н, с. Сторож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755640" y="4341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3.Ефремов Николай Фомич -  данные отсутствуют в книге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47640" y="1484280"/>
          <a:ext cx="6851880" cy="4219560"/>
        </p:xfrm>
        <a:graphic>
          <a:graphicData uri="http://schemas.openxmlformats.org/drawingml/2006/table">
            <a:tbl>
              <a:tblPr/>
              <a:tblGrid>
                <a:gridCol w="3426120"/>
                <a:gridCol w="3425760"/>
              </a:tblGrid>
              <a:tr h="335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рождения :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0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ий край, Краснотуранский р-н, Тублинск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/совх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5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и место призы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туранский РВК, Красноярский край, Краснотуранский р-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леднее место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9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инское 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л без в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4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9.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ежская обл., Острогожский р-н, с. Стороже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дник Евгений Федорович (т.4 стр. 533 «Книги Памяти») числится пропавшим без вести, а по данным  сайта «Мемориал» погиб в лагере для военнопленных в Мюльберге в 194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кало Терентий Павлович числится погибшим, но по данным сельчан и книги «Никто не забыт» пришел с фронта жив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ев Емельян Федорович – родился в 1898 г. ( на сайте Мемориал дата рождения 1908г), уроженец Новоивановки, Краснотуранского района. Фамилия появилась на памятнике недавно по инициативе родствен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и восстановлены имена, отчества погибших, дополнена информация о каждом из спис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по восстановлению информации будет продолжена, так как 15 человек в этом скорбном списке остаются неизвест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неизвестных солда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Антонов А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Антонов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Антонов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Антонов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Богданов М.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Бреус П.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Ганенко 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Крещик 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. Медведев С.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. Рудник Ф.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. Рудник М.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2. Рыбак Н.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3. Харунжин И.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4. Шамшин Н.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5. Тибеньков Н.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у мысль красной нитью я здесь проно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ва эти многих трону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 одном только вас я прошу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ы помнили их, чтобы помнил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755640" y="56304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сторах России мемориалов, посвященных победе в Великой Отечественной войне, создано очень много. И все памятники разные. Встречаются огромные монументы в крупных городах и незаметные обелиски в маленьких деревушках. На памятнике в нашем селе выбито 160 фамилий погибших солдат в годы ВОВ, призванных с нашей территории. Если внимательно посмотреть на списки, то можно увидеть фамилии без имен или отчеств, либо фамилии написанные дважды. Раньше можно было узнать информацию о погибших от жителей села, но время идет, ветеранов уже не осталось, очевидцы тех событий тоже уходят. Для того чтобы сохранить память о трагическом и героическом прошлом нашего народа, мы решили внести свой посильный вклад в сохранении памяти о защитниках Отечества, попытаться установить достоверную информацию о погибших односельч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684360" y="1006920"/>
            <a:ext cx="819468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становление подлинной информации о погибших односельчанах, имена и фамилии которых выбиты на памят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Собрать и проанализировать материал, связанный с созданием памятника в нашем с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Изучить имена погибших, выбитых на памят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опоставить имена погибших солдат, используя книги Памяти, сайт Мемориал, архивы военко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осстановить в списках погибших солдат недостающую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кто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его исследования является история создания памятника, посвящённого павшим солдатам в В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ом исследова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писки погибших на памятнике в с. Туби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потез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изучая, сохраняя и преумножая школьные традиции, создаем условия в школе для патриотического воспитания учащихся и привития любви к малой Роди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изна изучаемой проблем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оит в том, что до этого момента не делались попытки проанализировать списки погибших солдат, с целью уточнения свед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ктическая знач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атериалы, собранные нами, послужат частью экспозиции к 75- летию Великой Поб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:\Users\Школа\Desktop\памятник\памятник\DSCN9916.JPG"/>
          <p:cNvPicPr/>
          <p:nvPr/>
        </p:nvPicPr>
        <p:blipFill>
          <a:blip r:embed="rId1"/>
          <a:stretch/>
        </p:blipFill>
        <p:spPr>
          <a:xfrm>
            <a:off x="4284720" y="549360"/>
            <a:ext cx="4454640" cy="594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9280" y="47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ятник погибшим землякам – сентябрь 1973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- Ерошенко Дмитрий Евсее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памятник посвященный Великой Отечественной войне 1968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Школа\Desktop\памятник\памятник\DSCN9921.JPG"/>
          <p:cNvPicPr/>
          <p:nvPr/>
        </p:nvPicPr>
        <p:blipFill>
          <a:blip r:embed="rId1"/>
          <a:stretch/>
        </p:blipFill>
        <p:spPr>
          <a:xfrm>
            <a:off x="1258920" y="1413000"/>
            <a:ext cx="6626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иски погибших солд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Users\Школа\Desktop\памятник\DSCN4416.JPG"/>
          <p:cNvPicPr/>
          <p:nvPr/>
        </p:nvPicPr>
        <p:blipFill>
          <a:blip r:embed="rId1"/>
          <a:srcRect l="24817" t="12439" r="31373" b="3752"/>
          <a:stretch/>
        </p:blipFill>
        <p:spPr>
          <a:xfrm>
            <a:off x="1042920" y="1189080"/>
            <a:ext cx="3363840" cy="48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Школа\Desktop\памятник\DSCN4417.JPG"/>
          <p:cNvPicPr/>
          <p:nvPr/>
        </p:nvPicPr>
        <p:blipFill>
          <a:blip r:embed="rId2"/>
          <a:stretch/>
        </p:blipFill>
        <p:spPr>
          <a:xfrm>
            <a:off x="4788000" y="1189080"/>
            <a:ext cx="3644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иски погибших солд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Школа\Desktop\памятник\DSCN4419.JPG"/>
          <p:cNvPicPr/>
          <p:nvPr/>
        </p:nvPicPr>
        <p:blipFill>
          <a:blip r:embed="rId1"/>
          <a:stretch/>
        </p:blipFill>
        <p:spPr>
          <a:xfrm>
            <a:off x="684360" y="1341360"/>
            <a:ext cx="351792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Users\Школа\Desktop\памятник\DSCN4420.JPG"/>
          <p:cNvPicPr/>
          <p:nvPr/>
        </p:nvPicPr>
        <p:blipFill>
          <a:blip r:embed="rId2"/>
          <a:stretch/>
        </p:blipFill>
        <p:spPr>
          <a:xfrm>
            <a:off x="4572000" y="1341360"/>
            <a:ext cx="38973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611280" y="148428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Азаренко Митрофан Васильевич - уроженец Харькова, погиб в июле 1944 года, на памятнике неправильно указано отчество, по документам сайта Мемориал, родственники проживали на территории Тубинского мясо/молоко совх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627280" y="2852640"/>
          <a:ext cx="5545080" cy="3505320"/>
        </p:xfrm>
        <a:graphic>
          <a:graphicData uri="http://schemas.openxmlformats.org/drawingml/2006/table">
            <a:tbl>
              <a:tblPr/>
              <a:tblGrid>
                <a:gridCol w="1979640"/>
                <a:gridCol w="3565440"/>
              </a:tblGrid>
              <a:tr h="1022760">
                <a:tc>
                  <a:txBody>
                    <a:bodyPr lIns="114120" rIns="114120" tIns="38160" bIns="381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рождения/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2680" rIns="22680" tIns="22680" bIns="22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_.__.1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1800">
                <a:tc>
                  <a:txBody>
                    <a:bodyPr lIns="114120" rIns="114120" tIns="38160" bIns="381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и место призы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2680" rIns="22680" tIns="22680" bIns="22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__.1941 Краснотуранский РВК, Красноярский край, Краснотуранский р-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114120" rIns="114120" tIns="38160" bIns="381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инское 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2680" rIns="22680" tIns="22680" bIns="22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7400">
                <a:tc>
                  <a:txBody>
                    <a:bodyPr lIns="114120" rIns="114120" tIns="38160" bIns="381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2680" rIns="22680" tIns="22680" bIns="22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ал без в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114120" rIns="114120" tIns="38160" bIns="3816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выб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2680" rIns="22680" tIns="22680" bIns="226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.11.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680" marR="22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8-11-07T05:43:34Z</dcterms:modified>
  <cp:revision>33</cp:revision>
  <dc:subject/>
  <dc:title>Слайд 1</dc:title>
</cp:coreProperties>
</file>