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64B-8F18-438A-86AE-FCDEA30B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354-6FAC-4DFC-8285-4FAB898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F99-82C0-4AD6-A0C0-416C3BAF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297-1BCE-4A9F-8AA2-C1297C56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B65-68FC-447C-87B9-3ED177BF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686-8304-422C-B000-C55C328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AF9-DA16-4C1D-8051-6A7F0B54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448-B7A0-41EF-B286-258C702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43B-ABDD-43FD-A2C8-9C92C1C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2B5-9F7F-4166-A762-7256129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9EA-C39F-4C29-832A-0330D4BA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E6F-E52A-40BB-B2D0-8C8EAE2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0CF-E956-4D4D-A2B2-148764FCB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115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68360" y="310032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826920" y="-87480"/>
            <a:ext cx="6553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– историческое крае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ото из семейного альбома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 Ивченко Яна 11 к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Туб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-ль: Торжевская И.М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63374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 памят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fullimage (1)"/>
          <p:cNvPicPr/>
          <p:nvPr/>
        </p:nvPicPr>
        <p:blipFill>
          <a:blip r:embed="rId1"/>
          <a:stretch/>
        </p:blipFill>
        <p:spPr>
          <a:xfrm>
            <a:off x="1403280" y="765000"/>
            <a:ext cx="489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погибш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fullimage"/>
          <p:cNvPicPr/>
          <p:nvPr/>
        </p:nvPicPr>
        <p:blipFill>
          <a:blip r:embed="rId1"/>
          <a:stretch/>
        </p:blipFill>
        <p:spPr>
          <a:xfrm>
            <a:off x="428760" y="792000"/>
            <a:ext cx="74451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27080" y="274680"/>
            <a:ext cx="5776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удалось сделать в результате моей исследовательской деятельност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ь недостающие факты биографии моего праде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нать о судьбах родственников, связанных с этой фотографи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 место захоронения прадед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440" y="500040"/>
            <a:ext cx="6600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йна еще исчезнуть, не гото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Те годы - миллионы личных дра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А потому, давайте вспомним сно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Всех тех, кто подарил Победу на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Петр Давы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684360" y="26028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71640" y="717120"/>
            <a:ext cx="65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йна вошла в каждый дом, в каждую семью, прошла через сердце каждого человека» и  моя семья не исключение. Все дальше уходят от нас годы войны, было бы не простительно оставить семейные тайны неразгаданными. Тема войны будет всегда актуальной потому ка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 о людях, которые порой ценой своей жизни, дали нам возможность жить под мирным небом, должна оставаться  вечно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рабо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ление сведений о военном прошлом моей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9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Извлечь максимальное количество информации из фотограф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 Восстановить недостающие факты биографии моего праде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Узнать о судьбах родственников, связанных с этой фотографие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кт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ния – военное прошлое моей семь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исследования –  фотография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 поиск информации; изучение семейного архива, архивных документов в сети Интернет; интервьюирование родственников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то из семейного альб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32000" y="1699920"/>
            <a:ext cx="2376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4"/>
          <p:cNvPicPr/>
          <p:nvPr/>
        </p:nvPicPr>
        <p:blipFill>
          <a:blip r:embed="rId1"/>
          <a:stretch/>
        </p:blipFill>
        <p:spPr>
          <a:xfrm>
            <a:off x="3059280" y="857160"/>
            <a:ext cx="3441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8800" y="213840"/>
            <a:ext cx="648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7"/>
          <p:cNvPicPr/>
          <p:nvPr/>
        </p:nvPicPr>
        <p:blipFill>
          <a:blip r:embed="rId1"/>
          <a:stretch/>
        </p:blipFill>
        <p:spPr>
          <a:xfrm>
            <a:off x="1000080" y="9288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мья Ивч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611280" y="1052640"/>
            <a:ext cx="71294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31760"/>
            <a:ext cx="6553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я о захорон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милия Иса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я           Серг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ство   Парфен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инское звание   красноарме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смерти13.02.19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захоронения Рос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ион захоронения 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захоронения Колпино, п. Понтонный  Кормчино Петрозаводское 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 захоронения в ВМЦ 78-2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 захоронения братская мог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яние захоронения удовлетворитель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могил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хоронено всего13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шефствует над захоронением Средне-Невский судостроительный з-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437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карточка воинского захоро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fullimage"/>
          <p:cNvPicPr/>
          <p:nvPr/>
        </p:nvPicPr>
        <p:blipFill>
          <a:blip r:embed="rId1"/>
          <a:stretch/>
        </p:blipFill>
        <p:spPr>
          <a:xfrm>
            <a:off x="971640" y="765000"/>
            <a:ext cx="568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27T02:02:06Z</dcterms:modified>
  <cp:revision>20</cp:revision>
  <dc:subject/>
  <dc:title>Слайд 1</dc:title>
</cp:coreProperties>
</file>