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F193F-EE66-4E79-A081-0E69FFC7E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DD76-4F4A-4075-B735-BD596124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8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3D2E9F-91D6-42BF-8410-09455157C0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F19CE4-4B6C-42BE-9576-DD6A50B42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491138-F883-4CED-B8EC-04DB078B2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9CAED7-0110-4C45-8DBB-5DA9E3BD6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9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E6F4F-7F1D-45A9-9D1D-A96C066F44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D1FBC-5553-4CBD-A606-B4021D1711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CB77B8-2EF3-4632-A19F-4A09266530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D6C889-A042-425F-AB74-E0CD48711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0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181CD5-0BE6-4FB1-ADC9-367E55F5AC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D1F3F-14A9-4C38-A521-3B37D858F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A25CC-AA10-4C7A-BC75-23FA8487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3200F-D5D9-446C-AFEF-9020833E2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A2F4A-2627-478E-9AE8-F4C17F5C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B4A4F-0023-4B78-9C83-1802C9488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D657-FA63-4D87-B807-6E55EAD7C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0C95E-7C1A-4930-98B1-EF30D430E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963EA-3494-4AAA-AC22-20597C4E3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44360-2F7E-4443-B729-D422A01B5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C81C-635C-4A70-93F9-0BDF4F002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CA05-4FBE-45E1-B07D-A591DFBD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74AFC-0F29-48FF-B816-BEB59B6B0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67E42-1A38-4FAB-BEB6-E64DC4181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710FD-5F47-4079-892D-00CF20AD5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50534-4081-4D21-AC56-FAE28FDE8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AC1A1D-1A9E-4AE4-A928-57E9DC8DDA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01F3C-AB62-4616-9619-5CF2242938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CFE9B-17D8-4C90-88E9-2E5E61767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D425C-9463-49A1-98BD-D282A07CE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60E6D-A2B3-4A50-AE3E-4435C0175C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7EAF-0220-4099-A3C2-F014F7A2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3BA15-C745-47B6-81D2-0D2546A3B7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5318A-BFDB-4BDE-9564-7F1DD897A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DE3AD-25E4-4411-A48C-7F6DBC26A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E7F5B1-018F-40B0-B9DB-9DBF16156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578BF-03C0-4E7E-BF77-48A745068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297AD-E1D6-49BA-8EFE-8F306CC1E4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F6116-2203-4E7C-AB81-23FEFA78C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351102-3BE7-4E8E-8EB6-8D1DC60978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39C1F-93AE-4098-B610-836337800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D1F73-A379-4311-AF5F-3E327F840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CF88-7F7A-44B5-88FB-72E1CB36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225D02-FB77-4CD5-A20B-410B6A2F1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4B9D8-CADF-4FB0-86F7-ACB1C41F9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27FAF-4529-4CF1-85F0-A0857F516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F8AA8-445C-46AE-A2C2-3BB576DAA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CCF66-DEEA-4FFF-9181-1DE7DFBF8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FEE5D-2EA4-489B-82B0-4A0699DD4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5FEC4-8066-4BE7-9050-8B50A20B1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F019C-14DE-4646-AE27-7EE864182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C54300-5FA5-4692-A12A-B8325818A2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D441F8-724C-4359-9985-0FCF18A5C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520C2-FAF8-4FCF-A7C4-26DB0B2F5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D8F8F-5C02-43D2-89DE-5CAC1889D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CA8C3-BCED-4C73-BB95-85A0357C3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0395A-2E61-41BF-9C7D-B5469B364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ED90A-1A8E-4FF5-8EFE-9039A74A26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4B8D6E-96BD-49BE-9EC1-91BFE2211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D47C6-67DB-4705-A3D9-32B3D7EC1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0B08B-CD5B-4630-96B4-0B1C88E55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43FAA-67CD-4D84-A34F-F4EA149C5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AFE04-97E7-4F16-BF4E-50995E71B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E85E3D-9971-48DA-B932-B24827C30F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020C-9403-4E88-9201-4739C37C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BA448B-DC32-4138-BA12-9702BD139E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E5588A-7577-4168-91E4-5BD5A44EB8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B5A88-DB65-4F56-B58F-279D8B76B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3B3B31-D64C-4D5E-B078-39972A4CF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D00DE-5C6D-4EC4-B47C-FAEB893FD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B268CA-CF0B-4A22-BA38-5DE21D8E6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0386E-C565-4B46-A2C5-B6FD3BE1F1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F8F3A-E600-44B1-89DF-95B6C04D2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AACB8-1175-4739-BBB0-B036619EF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25D62-FFA5-4589-A29D-297ED237A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8276-5804-469D-8F2E-C5EDC8A2F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B9C874-6BFA-4C61-8316-D401CCB4F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75463E-354B-4597-A557-6A098A5BA2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489E60-CDE7-4709-8FFC-0BBF8BE750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5B0C9-C539-44B8-8522-D02A407DD4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5BE7D-8FC2-41EB-90E6-0DCFE677C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D6DF0-49DB-4275-82B9-EF6AA0C512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6D35B-5A7F-457C-B423-32700F9E8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574431-4604-43C9-96CD-84A5D1354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B8C73-DC5B-44DD-BE52-51AB84848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0AB5C-054F-44A6-9FA6-23E131B9B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3E33-3632-49DB-803A-6175CD2B3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20ECDF-E0F3-4CA2-8062-5FA63B532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70051-CCAF-49FB-858D-DC84468B02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59F75-82AE-4703-ADE8-DB8B05A27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427F88-B315-48E9-ABE1-4F0F30CB0B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78182E-D0B9-4FDB-B2BE-860F3F2442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89A90C-4124-40D6-B63A-CA9C090D01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9E438-31E8-4C87-B821-551171B46B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188103-0E19-45C2-91F6-25D50630CA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DB58FC-CB20-4C41-B89E-E3F21C641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7F5496-3AB7-4863-BC83-8DC8B95CB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FB79-EE65-4176-B2B6-D1E76D44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8851C-D15E-4A02-8603-8116817B3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EB5FB2-7137-402A-84CF-73071AC8C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DA6A8-43A4-4805-ABC4-82B60E90D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C3141-0097-40E4-898B-10E3A2A65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5E875-6F08-416D-902F-2D37062B6C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D05020-BB41-48AB-8F37-F51E3BE0B5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874455-6243-40A8-9129-FAC0B55505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8AEB2E-2EE4-407B-B942-BE451A82A0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F6431F-6A75-4B3E-BD5F-2B7DCBBDA8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8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8B861E-8EA2-4FD1-BC48-155B84A2F8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5DFF-55DE-49F4-AAAD-621EDB4178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1A3A-0A55-4300-BCA8-64D47018F35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8464-06A7-49A0-B8B5-788F43343C1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5F29-F027-4A2A-A1A5-0B0BDB317F3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4230-499E-4867-97A0-27219CF82E2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BEA9-FD3E-45E7-814A-C8592755E83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E4DA-D258-4AC6-8987-192D17C950D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0" name="Кольцо 10"/>
          <p:cNvGrpSpPr/>
          <p:nvPr/>
        </p:nvGrpSpPr>
        <p:grpSpPr>
          <a:xfrm>
            <a:off x="165240" y="1036800"/>
            <a:ext cx="1170000" cy="1170000"/>
            <a:chOff x="165240" y="1036800"/>
            <a:chExt cx="1170000" cy="1170000"/>
          </a:xfrm>
        </p:grpSpPr>
        <p:pic>
          <p:nvPicPr>
            <p:cNvPr id="321" name="Кольцо 10"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2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4DF3-A63B-4E21-A08E-3153F3A89D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7"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68" name="Кольцо 10"/>
          <p:cNvGrpSpPr/>
          <p:nvPr/>
        </p:nvGrpSpPr>
        <p:grpSpPr>
          <a:xfrm>
            <a:off x="165240" y="1036800"/>
            <a:ext cx="1170000" cy="1170000"/>
            <a:chOff x="165240" y="1036800"/>
            <a:chExt cx="1170000" cy="1170000"/>
          </a:xfrm>
        </p:grpSpPr>
        <p:pic>
          <p:nvPicPr>
            <p:cNvPr id="369" name="Кольцо 10" descr=""/>
            <p:cNvPicPr/>
            <p:nvPr/>
          </p:nvPicPr>
          <p:blipFill>
            <a:blip r:embed="rId3"/>
            <a:stretch/>
          </p:blipFill>
          <p:spPr>
            <a:xfrm>
              <a:off x="165240" y="1036800"/>
              <a:ext cx="1170000" cy="1170000"/>
            </a:xfrm>
            <a:prstGeom prst="rect">
              <a:avLst/>
            </a:prstGeom>
            <a:ln w="0">
              <a:noFill/>
            </a:ln>
          </p:spPr>
        </p:pic>
        <p:sp>
          <p:nvSpPr>
            <p:cNvPr id="3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71"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7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7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2A60-F97B-4B7A-AA72-000C80A06A8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Arial"/>
                <a:ea typeface="Arial"/>
              </a:rPr>
              <a:t>Тема «История развития хозяйства</a:t>
            </a:r>
            <a:br>
              <a:rPr sz="2900"/>
            </a:br>
            <a:r>
              <a:rPr b="1" lang="en-US" sz="2900" spc="-1" strike="noStrike">
                <a:solidFill>
                  <a:srgbClr val="572314"/>
                </a:solidFill>
                <a:latin typeface="Arial"/>
                <a:ea typeface="Arial"/>
              </a:rPr>
              <a:t>и социальной сферы села Тубинск»</a:t>
            </a:r>
            <a:endParaRPr b="0" lang="en-US" sz="2900" spc="-1" strike="noStrike">
              <a:solidFill>
                <a:srgbClr val="572314"/>
              </a:solidFill>
              <a:latin typeface="Corbel"/>
            </a:endParaRPr>
          </a:p>
        </p:txBody>
      </p:sp>
      <p:sp>
        <p:nvSpPr>
          <p:cNvPr id="415" name="PlaceHolder 2"/>
          <p:cNvSpPr>
            <a:spLocks noGrp="1"/>
          </p:cNvSpPr>
          <p:nvPr>
            <p:ph type="subTitle"/>
          </p:nvPr>
        </p:nvSpPr>
        <p:spPr>
          <a:xfrm>
            <a:off x="5292360" y="3885840"/>
            <a:ext cx="3382920" cy="256716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20e04"/>
                </a:solidFill>
                <a:latin typeface="Corbel"/>
              </a:rPr>
              <a:t>учебно-</a:t>
            </a:r>
            <a:r>
              <a:rPr b="1" lang="ru-RU" sz="1400" spc="-1" strike="noStrike">
                <a:solidFill>
                  <a:srgbClr val="320e04"/>
                </a:solidFill>
                <a:latin typeface="Corbel"/>
              </a:rPr>
              <a:t>ИССЛЕДОВАТЕЛЬСКАЯ РАБОТА</a:t>
            </a:r>
            <a:endParaRPr b="0" lang="en-US" sz="14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20e04"/>
                </a:solidFill>
                <a:latin typeface="Arial"/>
              </a:rPr>
              <a:t>Номинация «История села»</a:t>
            </a:r>
            <a:endParaRPr b="0" lang="en-US" sz="14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Автор работы: </a:t>
            </a:r>
            <a:r>
              <a:rPr b="0" lang="ru-RU" sz="2000" spc="-1" strike="noStrike">
                <a:solidFill>
                  <a:srgbClr val="320e04"/>
                </a:solidFill>
                <a:latin typeface="Arial"/>
              </a:rPr>
              <a:t>Ганенко Анастасия</a:t>
            </a:r>
            <a:endParaRPr b="0" lang="en-US" sz="20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М</a:t>
            </a:r>
            <a:r>
              <a:rPr b="0" lang="ru-RU" sz="2000" spc="-1" strike="noStrike">
                <a:solidFill>
                  <a:srgbClr val="320e04"/>
                </a:solidFill>
                <a:latin typeface="Arial"/>
              </a:rPr>
              <a:t>К</a:t>
            </a:r>
            <a:r>
              <a:rPr b="0" lang="ru-RU" sz="2000" spc="-1" strike="noStrike">
                <a:solidFill>
                  <a:srgbClr val="320e04"/>
                </a:solidFill>
                <a:latin typeface="Corbel"/>
              </a:rPr>
              <a:t>ОУ Тубинская СОШ</a:t>
            </a:r>
            <a:endParaRPr b="0" lang="en-US" sz="20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20e04"/>
                </a:solidFill>
                <a:latin typeface="Corbel"/>
              </a:rPr>
              <a:t>Рук-ль: Торжевская И.М</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Предвоенные годы</a:t>
            </a:r>
            <a:endParaRPr b="0" lang="en-US" sz="4300" spc="-1" strike="noStrike">
              <a:solidFill>
                <a:srgbClr val="572314"/>
              </a:solidFill>
              <a:latin typeface="Corbel"/>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Количество работающих 299 человек</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расли животноводства: скотоводство, свиноводство,  тонкорунное и грубошерстное овцеводство, коневодство</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трасли растениеводства: зерновые культуры, технические </a:t>
            </a:r>
            <a:r>
              <a:rPr b="0" lang="ru-RU" sz="2000" spc="-1" strike="noStrike">
                <a:solidFill>
                  <a:srgbClr val="000000"/>
                </a:solidFill>
                <a:latin typeface="Arial"/>
                <a:ea typeface="Arial"/>
              </a:rPr>
              <a:t>(подсолнечник, рыжик, табак, конопля).</a:t>
            </a:r>
            <a:r>
              <a:rPr b="0" lang="ru-RU" sz="3200" spc="-1" strike="noStrike">
                <a:solidFill>
                  <a:srgbClr val="000000"/>
                </a:solidFill>
                <a:latin typeface="Arial"/>
                <a:ea typeface="Arial"/>
              </a:rPr>
              <a:t> </a:t>
            </a:r>
            <a:endParaRPr b="0" lang="en-US" sz="3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оголовье крупного рогатого скота составляло 2198 голов из них  коров 973, сдано молока государству 2033 центнеров. На полях работало 27 тракторов и 9 комбайнов, только за 1940 год прибыль составила 356.939 рублей</a:t>
            </a:r>
            <a:r>
              <a:rPr b="0" lang="ru-RU" sz="2000" spc="-1" strike="noStrike">
                <a:solidFill>
                  <a:srgbClr val="000000"/>
                </a:solidFill>
                <a:latin typeface="Arial"/>
                <a:ea typeface="Arial"/>
              </a:rPr>
              <a:t>.</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35e01"/>
                </a:solidFill>
                <a:latin typeface="Arial"/>
                <a:ea typeface="Arial"/>
              </a:rPr>
              <a:t>Специализация- мясомолочное животноводство, растениеводство.</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rbel"/>
              </a:rPr>
              <a:t> </a:t>
            </a:r>
            <a:r>
              <a:rPr b="0" lang="en-US" sz="1800" spc="-1" strike="noStrike">
                <a:solidFill>
                  <a:srgbClr val="572314"/>
                </a:solidFill>
                <a:latin typeface="Arial"/>
                <a:ea typeface="Arial"/>
              </a:rPr>
              <a:t>В послевоенные годы хозяйство совхоза наращивало темпы и объемы производства. Анализ годовых отчетов бухгалтерии в период с 1946 по 1949 годы показал </a:t>
            </a:r>
            <a:r>
              <a:rPr b="0" lang="en-US" sz="1800" spc="-1" strike="noStrike">
                <a:solidFill>
                  <a:srgbClr val="572314"/>
                </a:solidFill>
                <a:latin typeface="Corbel"/>
              </a:rPr>
              <a:t>рост поголовья крупного рогатого скота:</a:t>
            </a:r>
            <a:endParaRPr b="0" lang="en-US" sz="1800" spc="-1" strike="noStrike">
              <a:solidFill>
                <a:srgbClr val="572314"/>
              </a:solidFill>
              <a:latin typeface="Corbel"/>
            </a:endParaRPr>
          </a:p>
        </p:txBody>
      </p:sp>
      <p:graphicFrame>
        <p:nvGraphicFramePr>
          <p:cNvPr id="435" name="Object 4"/>
          <p:cNvGraphicFramePr/>
          <p:nvPr/>
        </p:nvGraphicFramePr>
        <p:xfrm>
          <a:off x="1908000" y="1962000"/>
          <a:ext cx="5142240" cy="3436920"/>
        </p:xfrm>
        <a:graphic>
          <a:graphicData uri="http://schemas.openxmlformats.org/presentationml/2006/ole">
            <p:oleObj r:id="rId2" spid="">
              <p:embed/>
              <p:pic>
                <p:nvPicPr>
                  <p:cNvPr id="436" name="Object 4" descr=""/>
                  <p:cNvPicPr/>
                  <p:nvPr/>
                </p:nvPicPr>
                <p:blipFill>
                  <a:blip r:embed="rId3"/>
                  <a:stretch/>
                </p:blipFill>
                <p:spPr>
                  <a:xfrm>
                    <a:off x="1908000" y="1962000"/>
                    <a:ext cx="5142240" cy="343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Corbel"/>
              </a:rPr>
              <a:t>В эти же годы хозяйство успешно, согласно показателям справлялось и с планом по сдаче зерна и молока государству:</a:t>
            </a:r>
            <a:endParaRPr b="0" lang="en-US" sz="2000" spc="-1" strike="noStrike">
              <a:solidFill>
                <a:srgbClr val="572314"/>
              </a:solidFill>
              <a:latin typeface="Corbel"/>
            </a:endParaRPr>
          </a:p>
        </p:txBody>
      </p:sp>
      <p:graphicFrame>
        <p:nvGraphicFramePr>
          <p:cNvPr id="438" name="Object 4"/>
          <p:cNvGraphicFramePr/>
          <p:nvPr/>
        </p:nvGraphicFramePr>
        <p:xfrm>
          <a:off x="1692360" y="1944720"/>
          <a:ext cx="5167080" cy="3492360"/>
        </p:xfrm>
        <a:graphic>
          <a:graphicData uri="http://schemas.openxmlformats.org/presentationml/2006/ole">
            <p:oleObj r:id="rId2" spid="">
              <p:embed/>
              <p:pic>
                <p:nvPicPr>
                  <p:cNvPr id="439" name="Object 4" descr=""/>
                  <p:cNvPicPr/>
                  <p:nvPr/>
                </p:nvPicPr>
                <p:blipFill>
                  <a:blip r:embed="rId3"/>
                  <a:stretch/>
                </p:blipFill>
                <p:spPr>
                  <a:xfrm>
                    <a:off x="1692360" y="1944720"/>
                    <a:ext cx="5167080" cy="3492360"/>
                  </a:xfrm>
                  <a:prstGeom prst="rect">
                    <a:avLst/>
                  </a:prstGeom>
                  <a:ln w="0">
                    <a:noFill/>
                  </a:ln>
                </p:spPr>
              </p:pic>
            </p:oleObj>
          </a:graphicData>
        </a:graphic>
      </p:graphicFrame>
      <p:pic>
        <p:nvPicPr>
          <p:cNvPr id="440" name="Picture 7" descr=""/>
          <p:cNvPicPr/>
          <p:nvPr/>
        </p:nvPicPr>
        <p:blipFill>
          <a:blip r:embed="rId4"/>
          <a:srcRect l="62193" t="47154" r="29772" b="45174"/>
          <a:stretch/>
        </p:blipFill>
        <p:spPr>
          <a:xfrm>
            <a:off x="7020000" y="3284640"/>
            <a:ext cx="1297080" cy="77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428480" y="2854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60-70</a:t>
            </a:r>
            <a:r>
              <a:rPr b="0" lang="en-US" sz="4300" spc="-1" strike="noStrike">
                <a:solidFill>
                  <a:srgbClr val="572314"/>
                </a:solidFill>
                <a:latin typeface="Corbel"/>
              </a:rPr>
              <a:t>-е годы</a:t>
            </a:r>
            <a:endParaRPr b="0" lang="en-US" sz="4300" spc="-1" strike="noStrike">
              <a:solidFill>
                <a:srgbClr val="572314"/>
              </a:solidFill>
              <a:latin typeface="Corbel"/>
            </a:endParaRPr>
          </a:p>
        </p:txBody>
      </p:sp>
      <p:sp>
        <p:nvSpPr>
          <p:cNvPr id="442"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0-70-е годы - период подъема хозяйства, исходя из приказа № 75 по Тубинскому совхозу: « По итогам работы за 1 квартал совхозу вручено переходящее Красное Знамя Краснотуранского района. В 1966 году</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совхоз перевыполнил план по сдаче зерна на 267%, молока на 112%. По итогам Всероссийского соревнования совхозов 1966 года, Тубинский совхоз был признан победителем в Красноярском крае. </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5e01"/>
                </a:solidFill>
                <a:latin typeface="Arial"/>
                <a:ea typeface="Arial"/>
              </a:rPr>
              <a:t>Именно в 60-70 годы Тубинский совхоз становится крупнейшим зерновым предприятием юга района.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428480" y="2854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90-е годы</a:t>
            </a:r>
            <a:endParaRPr b="0" lang="en-US" sz="4300" spc="-1" strike="noStrike">
              <a:solidFill>
                <a:srgbClr val="572314"/>
              </a:solidFill>
              <a:latin typeface="Corbel"/>
            </a:endParaRPr>
          </a:p>
        </p:txBody>
      </p:sp>
      <p:sp>
        <p:nvSpPr>
          <p:cNvPr id="4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Arial"/>
                <a:ea typeface="Arial"/>
              </a:rPr>
              <a:t>В 1992 году Тубинский совхоз преобразован в акционерное общество « Тубинское».</a:t>
            </a:r>
            <a:endParaRPr b="0" lang="en-US" sz="32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В 1992   году директором становится Штеле Александр Александрович, который является руководителем хозяйства на сегодняшний день.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71360" y="274320"/>
            <a:ext cx="7615080" cy="17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 </a:t>
            </a:r>
            <a:r>
              <a:rPr b="0" lang="ru-RU" sz="1800" spc="-1" strike="noStrike">
                <a:solidFill>
                  <a:srgbClr val="572314"/>
                </a:solidFill>
                <a:latin typeface="Arial"/>
                <a:ea typeface="Arial"/>
              </a:rPr>
              <a:t>90-е годы  были самыми сложными в развитии сельского хозяйства края. ЗАО «Тубинск» в эти годы, несмотря на экономические трудности, наращивает темпы производства, переходит на   молочную специализацию.Об этом</a:t>
            </a:r>
            <a:br>
              <a:rPr sz="1800"/>
            </a:br>
            <a:r>
              <a:rPr b="0" lang="ru-RU" sz="1800" spc="-1" strike="noStrike">
                <a:solidFill>
                  <a:srgbClr val="572314"/>
                </a:solidFill>
                <a:latin typeface="Arial"/>
                <a:ea typeface="Arial"/>
              </a:rPr>
              <a:t>свидетельствуют следующие показатели:</a:t>
            </a:r>
            <a:endParaRPr b="0" lang="en-US" sz="1800" spc="-1" strike="noStrike">
              <a:solidFill>
                <a:srgbClr val="572314"/>
              </a:solidFill>
              <a:latin typeface="Corbel"/>
            </a:endParaRPr>
          </a:p>
        </p:txBody>
      </p:sp>
      <p:graphicFrame>
        <p:nvGraphicFramePr>
          <p:cNvPr id="446" name="Object 4"/>
          <p:cNvGraphicFramePr/>
          <p:nvPr/>
        </p:nvGraphicFramePr>
        <p:xfrm>
          <a:off x="1116000" y="1871640"/>
          <a:ext cx="6840720" cy="3651120"/>
        </p:xfrm>
        <a:graphic>
          <a:graphicData uri="http://schemas.openxmlformats.org/presentationml/2006/ole">
            <p:oleObj r:id="rId2" spid="">
              <p:embed/>
              <p:pic>
                <p:nvPicPr>
                  <p:cNvPr id="447" name="Object 4" descr=""/>
                  <p:cNvPicPr/>
                  <p:nvPr/>
                </p:nvPicPr>
                <p:blipFill>
                  <a:blip r:embed="rId3"/>
                  <a:stretch/>
                </p:blipFill>
                <p:spPr>
                  <a:xfrm>
                    <a:off x="1116000" y="1871640"/>
                    <a:ext cx="6840720" cy="365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Современный этап</a:t>
            </a:r>
            <a:endParaRPr b="0" lang="en-US" sz="4300" spc="-1" strike="noStrike">
              <a:solidFill>
                <a:srgbClr val="572314"/>
              </a:solidFill>
              <a:latin typeface="Corbel"/>
            </a:endParaRPr>
          </a:p>
        </p:txBody>
      </p:sp>
      <p:sp>
        <p:nvSpPr>
          <p:cNvPr id="44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На сегодняшний день в хозяйстве трудится  550 человек </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лощадь сельхозугодий 26100 га </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Отраслями специализации хозяйства являются: молочное животноводство,  растениеводство. </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На территории хозяйства созданы производства: пекарня, колбасный цех, мельница, автозаправочная станция. В 2008 году запущена  молочная ферма, оснащенная современным оборудованием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Социальная сфера</a:t>
            </a:r>
            <a:endParaRPr b="0" lang="en-US" sz="4300" spc="-1" strike="noStrike">
              <a:solidFill>
                <a:srgbClr val="572314"/>
              </a:solidFill>
              <a:latin typeface="Corbel"/>
            </a:endParaRPr>
          </a:p>
        </p:txBody>
      </p:sp>
      <p:sp>
        <p:nvSpPr>
          <p:cNvPr id="45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месте с развитием совхоза разрасталось село, его социальная сфера. До 1968 года в Тубинске была только начальная школа, дети учились в Н-Ивановке. А в 1968 году к зданию начальной школы была сделана пристройка и школа стала средней.</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 1971 году построили новую школу, которая в 2006 году отметила своё 35-летие</a:t>
            </a:r>
            <a:r>
              <a:rPr b="0" lang="ru-RU" sz="2400" spc="-1" strike="noStrike">
                <a:solidFill>
                  <a:srgbClr val="000000"/>
                </a:solidFill>
                <a:latin typeface="Corbe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Социальная сфера</a:t>
            </a:r>
            <a:endParaRPr b="0" lang="en-US" sz="4300" spc="-1" strike="noStrike">
              <a:solidFill>
                <a:srgbClr val="572314"/>
              </a:solidFill>
              <a:latin typeface="Corbel"/>
            </a:endParaRPr>
          </a:p>
        </p:txBody>
      </p:sp>
      <p:sp>
        <p:nvSpPr>
          <p:cNvPr id="45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Детский сад. </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Arial"/>
                <a:ea typeface="Arial"/>
              </a:rPr>
              <a:t>До 1972 года детсад находился в неприспособленном здании и только 30 сентября 1972 года был открыт детский комбинат «Мотылёк» на 70 мест. За эти годы из детского сада было выпущено 340 детей. </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 последним данным, детский  сад посещают 50 детишек.</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Социальная сфера</a:t>
            </a:r>
            <a:endParaRPr b="0" lang="en-US" sz="4300" spc="-1" strike="noStrike">
              <a:solidFill>
                <a:srgbClr val="572314"/>
              </a:solidFill>
              <a:latin typeface="Corbel"/>
            </a:endParaRPr>
          </a:p>
        </p:txBody>
      </p:sp>
      <p:sp>
        <p:nvSpPr>
          <p:cNvPr id="45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В 1960 году в Тубинск была переведена участковая больница из Н-Ивановки. </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В 1974 году больница была реорганизована в ФАП. </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Цель:</a:t>
            </a:r>
            <a:endParaRPr b="0" lang="en-US" sz="4300" spc="-1" strike="noStrike">
              <a:solidFill>
                <a:srgbClr val="572314"/>
              </a:solidFill>
              <a:latin typeface="Corbel"/>
            </a:endParaRPr>
          </a:p>
        </p:txBody>
      </p:sp>
      <p:sp>
        <p:nvSpPr>
          <p:cNvPr id="41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проследить изменения в хозяйственной деятельности и развитии социальной сферы жителей села Тубинск в 1933 – 2009 годах; определить возможные причины этих изменений</a:t>
            </a:r>
            <a:r>
              <a:rPr b="0" lang="en-US" sz="3200" spc="-1" strike="noStrike">
                <a:solidFill>
                  <a:srgbClr val="000000"/>
                </a:solidFill>
                <a:latin typeface="Corbel"/>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Социальная сфера</a:t>
            </a:r>
            <a:endParaRPr b="0" lang="en-US" sz="4300" spc="-1" strike="noStrike">
              <a:solidFill>
                <a:srgbClr val="572314"/>
              </a:solidFill>
              <a:latin typeface="Corbel"/>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м культуры.</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о 1955года в селе клуба не было. Фильмы, которые привозили, просматривали на конном дворе. Осенью  1955 года открылся новый клуб, который построили своими силами.</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о 1956 года библиотека находилась в Н-Ивановке.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 1987 году библиотека занимает отдельное помещение.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егодня на абонементе в читальном зале более 1000 читателей.</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Corbel"/>
              </a:rPr>
              <a:t>Заключение</a:t>
            </a:r>
            <a:endParaRPr b="0" lang="en-US" sz="3600" spc="-1" strike="noStrike">
              <a:solidFill>
                <a:srgbClr val="572314"/>
              </a:solidFill>
              <a:latin typeface="Corbel"/>
            </a:endParaRPr>
          </a:p>
        </p:txBody>
      </p:sp>
      <p:sp>
        <p:nvSpPr>
          <p:cNvPr id="459" name=""/>
          <p:cNvSpPr txBox="1"/>
          <p:nvPr/>
        </p:nvSpPr>
        <p:spPr>
          <a:xfrm>
            <a:off x="1000080" y="764640"/>
            <a:ext cx="7686720" cy="57596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Выводы:</a:t>
            </a: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В 30-е годы полным ходом идет образование колхозов и совхозов на территории края. Тубинский совхоз возникает на бывших землях единоличников, как совершенно новый населенный пункт, объединивший четыре фермы. С самого начала хозяйство имело мясомолочную специализацию </a:t>
            </a:r>
            <a:endParaRPr b="0" lang="en-US" sz="20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Перед началом войны село было одним из крупнейших в Краснотуранском районе, но война внесла свои коррективы. В годы войны сократилось поголовье скота, упала урожайность зерновых </a:t>
            </a:r>
            <a:endParaRPr b="0" lang="en-US" sz="20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Послевоенные годы были успешными: создается инфраструктура села, совхоз становится крупнейшим зерновым предприятием  юга района</a:t>
            </a:r>
            <a:endParaRPr b="0" lang="en-US" sz="20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В 90-е годы ЗАО «Тубинск» переходит на молочную специализацию, приобретает статус передового хозяйства</a:t>
            </a:r>
            <a:endParaRPr b="0" lang="en-US" sz="20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Актуальность</a:t>
            </a:r>
            <a:endParaRPr b="0" lang="en-US" sz="4300" spc="-1" strike="noStrike">
              <a:solidFill>
                <a:srgbClr val="572314"/>
              </a:solidFill>
              <a:latin typeface="Corbel"/>
            </a:endParaRPr>
          </a:p>
        </p:txBody>
      </p:sp>
      <p:sp>
        <p:nvSpPr>
          <p:cNvPr id="419" name=""/>
          <p:cNvSpPr txBox="1"/>
          <p:nvPr/>
        </p:nvSpPr>
        <p:spPr>
          <a:xfrm>
            <a:off x="1434960" y="1447560"/>
            <a:ext cx="7499520" cy="4800600"/>
          </a:xfrm>
          <a:prstGeom prst="rect">
            <a:avLst/>
          </a:prstGeom>
          <a:noFill/>
          <a:ln w="0">
            <a:noFill/>
          </a:ln>
        </p:spPr>
        <p:txBody>
          <a:bodyPr anchor="t">
            <a:normAutofit fontScale="95000"/>
          </a:bodyPr>
          <a:p>
            <a:pPr marL="346680" indent="-2682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В течение многих лет ученики нашей школы собирают материал по истории своего  села. 1 ноября 2008 года Тубинскому совхозу исполнилось 75 лет. История села Тубинск оказалась очень плотно вплетена в ткань истории нашего края, так как наше село является ровесником Красноярского края. На примере развития нашего села можно проследить становление сельской местности края. При этом всех профессиональных историков не хватит, чтобы изучить историю каждого российского села, поэтому кому как не нам, жителям российских сёл, заниматься изучением своей Малой Родины. Такое узконаправленное краеведение всегда будет актуально, так как даёт возможность взглянуть другими глазами на жизнь наших предков, лучше познакомиться с историей своего села.</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346680" indent="-2682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Актуальность</a:t>
            </a:r>
            <a:r>
              <a:rPr b="1" lang="en-US" sz="1800" spc="-1" strike="noStrike">
                <a:solidFill>
                  <a:srgbClr val="000000"/>
                </a:solidFill>
                <a:latin typeface="Arial"/>
                <a:ea typeface="Arial"/>
              </a:rPr>
              <a:t> исследования заключается в том, что материалы по  истории развития хозяйства и социальной сферы нашего села  дают возможность более полно представить картину становления нашего села и ближе познакомиться с историей  развития сельского хозяйства края.</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Arial"/>
                <a:ea typeface="Arial"/>
              </a:rPr>
              <a:t>Новизна</a:t>
            </a:r>
            <a:endParaRPr b="0" lang="en-US" sz="4300" spc="-1" strike="noStrike">
              <a:solidFill>
                <a:srgbClr val="572314"/>
              </a:solidFill>
              <a:latin typeface="Corbel"/>
            </a:endParaRPr>
          </a:p>
        </p:txBody>
      </p:sp>
      <p:sp>
        <p:nvSpPr>
          <p:cNvPr id="42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Новизна работы заключается в том, что ранее не проводилось подобное исследование на основе архивных документов.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Задачи</a:t>
            </a:r>
            <a:endParaRPr b="0" lang="en-US" sz="4300" spc="-1" strike="noStrike">
              <a:solidFill>
                <a:srgbClr val="572314"/>
              </a:solidFill>
              <a:latin typeface="Corbel"/>
            </a:endParaRPr>
          </a:p>
        </p:txBody>
      </p:sp>
      <p:sp>
        <p:nvSpPr>
          <p:cNvPr id="4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изучить и проанализировать архивные документы по селу Тубинск,  Краснотуранского района, Красноярского края, относящиеся к данному периоду;</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исследовать состояние хозяйственной и социальной сферы на современном этапе</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провести интервью с руководителями хозяйств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Методы исследования</a:t>
            </a:r>
            <a:endParaRPr b="0" lang="en-US" sz="4300" spc="-1" strike="noStrike">
              <a:solidFill>
                <a:srgbClr val="572314"/>
              </a:solidFill>
              <a:latin typeface="Corbel"/>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сравнительно-исторический</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статистический</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описательный</a:t>
            </a:r>
            <a:endParaRPr b="0" lang="en-US" sz="32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Ожидаемый результат</a:t>
            </a:r>
            <a:endParaRPr b="0" lang="en-US" sz="4300" spc="-1" strike="noStrike">
              <a:solidFill>
                <a:srgbClr val="572314"/>
              </a:solidFill>
              <a:latin typeface="Corbel"/>
            </a:endParaRPr>
          </a:p>
        </p:txBody>
      </p:sp>
      <p:sp>
        <p:nvSpPr>
          <p:cNvPr id="4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данная работа,  на мой взгляд, способствует формированию уважительного, бережного отношения к истории своей малой родины.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История образования</a:t>
            </a:r>
            <a:endParaRPr b="0" lang="en-US" sz="4300" spc="-1" strike="noStrike">
              <a:solidFill>
                <a:srgbClr val="572314"/>
              </a:solidFill>
              <a:latin typeface="Corbel"/>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5 </a:t>
            </a:r>
            <a:r>
              <a:rPr b="0" lang="en-US" sz="2800" spc="-1" strike="noStrike">
                <a:solidFill>
                  <a:srgbClr val="000000"/>
                </a:solidFill>
                <a:latin typeface="Corbel"/>
              </a:rPr>
              <a:t>лет прошло с того дня, когда 1 ноября </a:t>
            </a:r>
            <a:r>
              <a:rPr b="0" lang="en-US" sz="2800" spc="-1" strike="noStrike">
                <a:solidFill>
                  <a:srgbClr val="000000"/>
                </a:solidFill>
                <a:latin typeface="Arial"/>
                <a:ea typeface="Arial"/>
              </a:rPr>
              <a:t>1933</a:t>
            </a:r>
            <a:r>
              <a:rPr b="0" lang="en-US" sz="2800" spc="-1" strike="noStrike">
                <a:solidFill>
                  <a:srgbClr val="000000"/>
                </a:solidFill>
                <a:latin typeface="Corbel"/>
              </a:rPr>
              <a:t> года образовался Тубинский совхоз.</a:t>
            </a:r>
            <a:endParaRPr b="0" lang="en-US" sz="28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В  объяснительной записке к годовому отчету  Тубинского мясосовхоза мы читаем, что «Тубинский мясосовхоз «Скотовод № </a:t>
            </a:r>
            <a:r>
              <a:rPr b="0" lang="en-US" sz="2800" spc="-1" strike="noStrike">
                <a:solidFill>
                  <a:srgbClr val="000000"/>
                </a:solidFill>
                <a:latin typeface="Arial"/>
                <a:ea typeface="Arial"/>
              </a:rPr>
              <a:t>259</a:t>
            </a:r>
            <a:r>
              <a:rPr b="0" lang="en-US" sz="2800" spc="-1" strike="noStrike">
                <a:solidFill>
                  <a:srgbClr val="000000"/>
                </a:solidFill>
                <a:latin typeface="Corbel"/>
              </a:rPr>
              <a:t>» выделился из Саянского мясосовхоза «Скотовод № </a:t>
            </a:r>
            <a:r>
              <a:rPr b="0" lang="en-US" sz="2800" spc="-1" strike="noStrike">
                <a:solidFill>
                  <a:srgbClr val="000000"/>
                </a:solidFill>
                <a:latin typeface="Arial"/>
                <a:ea typeface="Arial"/>
              </a:rPr>
              <a:t>250</a:t>
            </a:r>
            <a:r>
              <a:rPr b="0" lang="en-US" sz="2800" spc="-1" strike="noStrike">
                <a:solidFill>
                  <a:srgbClr val="000000"/>
                </a:solidFill>
                <a:latin typeface="Corbel"/>
              </a:rPr>
              <a:t>» 1 ноября </a:t>
            </a:r>
            <a:r>
              <a:rPr b="0" lang="en-US" sz="2800" spc="-1" strike="noStrike">
                <a:solidFill>
                  <a:srgbClr val="000000"/>
                </a:solidFill>
                <a:latin typeface="Arial"/>
                <a:ea typeface="Arial"/>
              </a:rPr>
              <a:t>1933 </a:t>
            </a:r>
            <a:r>
              <a:rPr b="0" lang="en-US" sz="2800" spc="-1" strike="noStrike">
                <a:solidFill>
                  <a:srgbClr val="000000"/>
                </a:solidFill>
                <a:latin typeface="Corbel"/>
              </a:rPr>
              <a:t>года». Тубинский мясосовхоз вошел в состав Минусинского Союз-</a:t>
            </a:r>
            <a:br>
              <a:rPr sz="2800"/>
            </a:br>
            <a:r>
              <a:rPr b="0" lang="en-US" sz="2800" spc="-1" strike="noStrike">
                <a:solidFill>
                  <a:srgbClr val="000000"/>
                </a:solidFill>
                <a:latin typeface="Corbel"/>
              </a:rPr>
              <a:t>Скотовод треста</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071360" y="259920"/>
            <a:ext cx="7553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2314"/>
                </a:solidFill>
                <a:latin typeface="Corbel"/>
              </a:rPr>
              <a:t>В январе </a:t>
            </a:r>
            <a:r>
              <a:rPr b="0" lang="en-US" sz="2200" spc="-1" strike="noStrike">
                <a:solidFill>
                  <a:srgbClr val="572314"/>
                </a:solidFill>
                <a:latin typeface="Arial"/>
                <a:ea typeface="Arial"/>
              </a:rPr>
              <a:t>1934</a:t>
            </a:r>
            <a:r>
              <a:rPr b="0" lang="en-US" sz="2200" spc="-1" strike="noStrike">
                <a:solidFill>
                  <a:srgbClr val="572314"/>
                </a:solidFill>
                <a:latin typeface="Corbel"/>
              </a:rPr>
              <a:t> года был составлен первый годовой отчет, который содержал основные показатели работы совхоза и дальнейшие шаги по его развитию.</a:t>
            </a:r>
            <a:endParaRPr b="0" lang="en-US" sz="2200" spc="-1" strike="noStrike">
              <a:solidFill>
                <a:srgbClr val="572314"/>
              </a:solidFill>
              <a:latin typeface="Corbel"/>
            </a:endParaRPr>
          </a:p>
        </p:txBody>
      </p:sp>
      <p:graphicFrame>
        <p:nvGraphicFramePr>
          <p:cNvPr id="431" name=""/>
          <p:cNvGraphicFramePr/>
          <p:nvPr/>
        </p:nvGraphicFramePr>
        <p:xfrm>
          <a:off x="1547640" y="2017800"/>
          <a:ext cx="5832720" cy="4279680"/>
        </p:xfrm>
        <a:graphic>
          <a:graphicData uri="http://schemas.openxmlformats.org/drawingml/2006/table">
            <a:tbl>
              <a:tblPr/>
              <a:tblGrid>
                <a:gridCol w="2884680"/>
                <a:gridCol w="2948040"/>
              </a:tblGrid>
              <a:tr h="49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аименовани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л-во</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ки</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голов</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8d01"/>
                          </a:solidFill>
                          <a:latin typeface="Arial"/>
                        </a:rPr>
                        <a:t>Коров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8d01"/>
                          </a:solidFill>
                          <a:latin typeface="Arial"/>
                        </a:rPr>
                        <a:t>239 голов</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тели</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7 голов</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лки</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9 голов</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лодняк</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 голов</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ТОГО</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1 голова</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0:15:22Z</dcterms:created>
  <dc:creator>Торжевские</dc:creator>
  <dc:description/>
  <dc:language>en-US</dc:language>
  <cp:lastModifiedBy>Торжевские</cp:lastModifiedBy>
  <dcterms:modified xsi:type="dcterms:W3CDTF">2012-11-06T12:39:33Z</dcterms:modified>
  <cp:revision>22</cp:revision>
  <dc:subject/>
  <dc:title>Тема «История развития хозяйства и социальной сферы села Тубинск»</dc:title>
</cp:coreProperties>
</file>