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9A08-AFF2-4EAF-ABA6-821B29557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467C-2FF7-4365-9114-B65574470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FE19-C48E-418A-B66C-BAE8CD7C5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740F-58C2-4E8D-AF10-8A344C2B5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9728-BCF9-42D8-8448-484851FA7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A8FC-6614-4424-853B-FC9E20CA5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7B32-90B6-4873-8DCD-D4599E618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1BB5-3424-4171-9236-E074E2B97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010F-EF46-413A-BFC5-6E0EBB437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905F-B1C6-4F2F-8A6B-6886C98F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FD92-1BE1-4860-8AF2-98B5EF57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DABB-C3A2-43C8-954A-65EF4139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C9A5C-A190-41B3-8647-C91171B06C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6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"/>
          <p:cNvSpPr/>
          <p:nvPr/>
        </p:nvSpPr>
        <p:spPr>
          <a:xfrm>
            <a:off x="0" y="6597360"/>
            <a:ext cx="1638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a6a6a6"/>
                </a:solidFill>
                <a:latin typeface="Arial"/>
                <a:ea typeface="Calibri"/>
              </a:rPr>
              <a:t>FokinaLida.75@mail.r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2" descr="D:\Лидия\шаблоны\для работы\ramki\BRD487.wmf"/>
          <p:cNvPicPr/>
          <p:nvPr/>
        </p:nvPicPr>
        <p:blipFill>
          <a:blip r:embed="rId2"/>
          <a:stretch/>
        </p:blipFill>
        <p:spPr>
          <a:xfrm>
            <a:off x="250920" y="6093000"/>
            <a:ext cx="519120" cy="525240"/>
          </a:xfrm>
          <a:prstGeom prst="rect">
            <a:avLst/>
          </a:prstGeom>
          <a:ln w="0">
            <a:noFill/>
          </a:ln>
        </p:spPr>
      </p:pic>
      <p:pic>
        <p:nvPicPr>
          <p:cNvPr id="8" name="Picture 2" descr="D:\Лидия\шаблоны\для работы\ramki\BRD487.wmf"/>
          <p:cNvPicPr/>
          <p:nvPr/>
        </p:nvPicPr>
        <p:blipFill>
          <a:blip r:embed="rId3"/>
          <a:stretch/>
        </p:blipFill>
        <p:spPr>
          <a:xfrm rot="10800000">
            <a:off x="8388360" y="188640"/>
            <a:ext cx="519120" cy="523800"/>
          </a:xfrm>
          <a:prstGeom prst="rect">
            <a:avLst/>
          </a:prstGeom>
          <a:ln w="0">
            <a:noFill/>
          </a:ln>
        </p:spPr>
      </p:pic>
      <p:pic>
        <p:nvPicPr>
          <p:cNvPr id="9" name="Picture 2" descr="D:\Лидия\шаблоны\для работы\ramki\BRD487.wmf"/>
          <p:cNvPicPr/>
          <p:nvPr/>
        </p:nvPicPr>
        <p:blipFill>
          <a:blip r:embed="rId4"/>
          <a:stretch/>
        </p:blipFill>
        <p:spPr>
          <a:xfrm rot="5566200">
            <a:off x="194760" y="198360"/>
            <a:ext cx="517680" cy="52380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2" descr="D:\Лидия\шаблоны\для работы\ramki\BRD487.wmf"/>
          <p:cNvPicPr/>
          <p:nvPr/>
        </p:nvPicPr>
        <p:blipFill>
          <a:blip r:embed="rId5"/>
          <a:stretch/>
        </p:blipFill>
        <p:spPr>
          <a:xfrm rot="16368000">
            <a:off x="8403120" y="6103080"/>
            <a:ext cx="519120" cy="52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283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стория предков всегда любопытна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                                                                             для того, кто достоин иметь Отечество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                                                                        Н.М. Карамзин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 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Мы родом из Расе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34000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боту выполнила: Торжевская Людми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еница 10 класса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Тубинская СО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уководитель:    Торжевская И.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итель истори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рдовский национальный костю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img5"/>
          <p:cNvPicPr/>
          <p:nvPr/>
        </p:nvPicPr>
        <p:blipFill>
          <a:blip r:embed="rId1"/>
          <a:stretch/>
        </p:blipFill>
        <p:spPr>
          <a:xfrm>
            <a:off x="900000" y="1413000"/>
            <a:ext cx="727416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исленность мордовского насел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897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.- 3.8 тыс. челове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926 г.-20 тыс. челове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1926 год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урагинский район – 729 челове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дринский район - 917 челове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го по Минусинскому округу – 2268 че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930г.- 25 тыс. челове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010г.- 4295 челове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м Семаевой В.Л.  Галактионо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IMG_2293"/>
          <p:cNvPicPr/>
          <p:nvPr/>
        </p:nvPicPr>
        <p:blipFill>
          <a:blip r:embed="rId1"/>
          <a:stretch/>
        </p:blipFill>
        <p:spPr>
          <a:xfrm>
            <a:off x="468360" y="1593720"/>
            <a:ext cx="763272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личники, изготовленные Калининым Ф.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IMG_2296"/>
          <p:cNvPicPr/>
          <p:nvPr/>
        </p:nvPicPr>
        <p:blipFill>
          <a:blip r:embed="rId1"/>
          <a:stretch/>
        </p:blipFill>
        <p:spPr>
          <a:xfrm>
            <a:off x="826920" y="1052640"/>
            <a:ext cx="763272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м Калинина Федора Николаевич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IMG_2298"/>
          <p:cNvPicPr/>
          <p:nvPr/>
        </p:nvPicPr>
        <p:blipFill>
          <a:blip r:embed="rId1"/>
          <a:stretch/>
        </p:blipFill>
        <p:spPr>
          <a:xfrm>
            <a:off x="684360" y="1052640"/>
            <a:ext cx="763272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Калинин Егор Федорович 1907 года рождения пропал без ве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Калинин Федор Федорович 1908 года рождения, вернулся тяжело раненым без ног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Калинин Семен Федорович 1911 года рождения пропал без вести, но был найден в братской могиле в Белгородской област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.Калинин Дмитрий Федорович 1914 года рождения вернулся целым и невредимы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Калинин Степан Федорович 1918 года рождения пришел в звании гвардии капитана, был семь раз ранен, награжден орденом Красного Знамени, орденом Красной Звезды, орденами Отечественной войны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тепени, медалью «За боевые заслуги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6. Калинин Иван Федорович 1920 года рождения вернулся целым и невредимы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1396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жина Аксинья Тимофеевна с детьм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945 г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>
            <a:lum bright="6000"/>
          </a:blip>
          <a:srcRect l="4958" t="2418" r="7922" b="9690"/>
          <a:stretch/>
        </p:blipFill>
        <p:spPr>
          <a:xfrm>
            <a:off x="1042920" y="1409760"/>
            <a:ext cx="7058160" cy="48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одственники из Мордови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1913040" y="1484280"/>
            <a:ext cx="46702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стры Аксиньи Тимофеевны из Мордов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835280" y="1406520"/>
            <a:ext cx="532908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тория переселения мордовского народа связана с вехами истории всей страны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мордовский народ является неотъемлемой частью единого российского полиэтнического государства, а мордовское культурное наследие обогащает культуру нашего родного Отечества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мордовский народ накопил богатый опыт этнической консолидации и этнокультурного взаимодейств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обле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229600" cy="50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рдва являлась уникальной и очень самобытной частью  села, со своими традициями и обычаями. Но, к сожалению, со временем произошла ассимиляция, то есть растворение в другой этнической среде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блем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на сегодняшний день состоит в том, что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происходит постепенное забывание родного языка, обычаев, этнической культуры переселенцев. Рост доли межэтнических браков, увеличение числа детей в этнически смешанных семьях приводят, в конечном счете, к потере чувства прежней этнической принадлежности. Этот процесс обычно завершается со сменой нескольких поколений. К сожалению, со временем потомки переселенцев вообще не будут знать о своих исторических корнях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Знаменитые представители мордовского наро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топоп Авваку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асилий Ключевск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атриарх Нико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асилий Чапае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идия Русланов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дежда Кадышев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талья Водянов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лександр Овечки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лег Табако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ктуальн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связи с этим актуальны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редставляется изучение исторического прошлого, особенностей традиционной культуры и современности сибирской части данного этноса. Значение исследования заключается не только в раскрытии традиционной культуры мордвы в Сибирском регионе, но и в том, что на примере мордовской диаспоры могут быть выявлены механизмы и особенности бытия этнической группы в многонациональной среде в цел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55640" y="2133360"/>
            <a:ext cx="756144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овизн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исследования заключается в недостаточной изученности данного вопроса в краеведческой тематике,  в практическом отсутствии предметов материальной культуры и быта мордовского народа и практической сложности его воссозда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дачи исследова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Изучить и систематизировать источники и литературу  по тем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Интервьюирование старожилов по теме исследовательской работ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 Расширить, знания о мордовском народе, его традициях, обряда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Воссоздать историю переселения, особенности адаптации мордвы в Сибири, на основе архивных данных  и сведений старожилов сел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24000" y="764640"/>
            <a:ext cx="8300880" cy="15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ель работы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учение истории переселения, особенностей традиционной культуры и быта сибирской части мордовского народа, на примере жизни одного сел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ъект исследова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 сибирские мордвы-переселенц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едмет исследования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тория заселения,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адиции, особенности быта мордовского наро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ипотез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сследования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казавшись по разным причинам в иной культурной среде на правах этнического меньшинства, мордва накопила богатый опыт этнической консолидации и этнокультурного взаимодейств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етоды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учение научной литератур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исание, интервьюирование, анализ архивных документов, синтез, обобщ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жидаемый результа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Изучение краеведческой литературы по тем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Анализ документов и архивных материал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Встреча со старожилами села и проведение интервь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Восстановление сведений по истории переселенцев села Галактионов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Уважительное отношение к своей малой родин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рдовская семья начало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X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0_511b4_8cd730ee_L"/>
          <p:cNvPicPr/>
          <p:nvPr/>
        </p:nvPicPr>
        <p:blipFill>
          <a:blip r:embed="rId1"/>
          <a:stretch/>
        </p:blipFill>
        <p:spPr>
          <a:xfrm>
            <a:off x="826920" y="1174680"/>
            <a:ext cx="741708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рдовская кухн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img0"/>
          <p:cNvPicPr/>
          <p:nvPr/>
        </p:nvPicPr>
        <p:blipFill>
          <a:blip r:embed="rId1"/>
          <a:stretch/>
        </p:blipFill>
        <p:spPr>
          <a:xfrm>
            <a:off x="395280" y="836640"/>
            <a:ext cx="835344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5796000" y="1052640"/>
            <a:ext cx="289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рдовск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циональ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стю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VII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teruhane"/>
          <p:cNvPicPr/>
          <p:nvPr/>
        </p:nvPicPr>
        <p:blipFill>
          <a:blip r:embed="rId1"/>
          <a:stretch/>
        </p:blipFill>
        <p:spPr>
          <a:xfrm>
            <a:off x="808200" y="260280"/>
            <a:ext cx="456552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2T14:11:23Z</dcterms:created>
  <dc:creator>Торжевские</dc:creator>
  <dc:description/>
  <dc:language>en-US</dc:language>
  <cp:lastModifiedBy>Пользователь</cp:lastModifiedBy>
  <dcterms:modified xsi:type="dcterms:W3CDTF">2025-01-16T01:33:25Z</dcterms:modified>
  <cp:revision>13</cp:revision>
  <dc:subject/>
  <dc:title>Слайд 1</dc:title>
</cp:coreProperties>
</file>