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C44-CE44-4182-8C21-1ADC928C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C68-15E1-4455-AC54-F2C44DB6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708-DAF5-4A5A-B683-FB6347AB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6BF-44CB-4EF1-90D5-1CB01EAB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A19-4B1C-4779-A161-AADD9501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3D5-4B15-43EF-9604-30CA099A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1AE-7067-4BDF-8FD7-CE2A3508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B55-C700-4BDB-89D8-8A3E7919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F91-4B71-489A-BF2E-2D247CF3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29F-C339-4464-9570-20FA95CB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07D-FF31-4C3B-AC1A-5A4A7C58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30C-316A-41D6-BA64-2E94D404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821C-F7D1-423F-837B-BFCE5E4D72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pamyat-naroda.ru/heroes/podvig-chelovek_nagrazhdenie45525883/" TargetMode="External"/><Relationship Id="rId2" Type="http://schemas.openxmlformats.org/officeDocument/2006/relationships/hyperlink" Target="https://pamyat-naroda.ru/heroes/podvig-chelovek_nagrazhdenie20257674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инация «Научный конвент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-история</a:t>
            </a:r>
            <a:br>
              <a:rPr sz="2800"/>
            </a:b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ши земляки-участники фронта и тыл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у выполнила: Баранюк М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еница 9 клас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БОУ Тубинская СОШ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клад тружеников тыла в дело Поб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1640" y="121284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това  Екатерина Дмитриевна, работавшая  в 1943 году на маслозаводе вспоминала: "Тяжело было, все делали руками, 15-16 летние девчонки крутили руками бойню для изготовления масла. В 40 градусный мороз полуголодными, кое-как одетыми и обутыми  приходилось ездить на быках в Метиховский лог по "чищу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C:\Users\Ирина\Desktop\исследовательские работы\Федотова.jpg"/>
          <p:cNvPicPr/>
          <p:nvPr/>
        </p:nvPicPr>
        <p:blipFill>
          <a:blip r:embed="rId1"/>
          <a:stretch/>
        </p:blipFill>
        <p:spPr>
          <a:xfrm>
            <a:off x="590400" y="1487520"/>
            <a:ext cx="3859200" cy="798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563640" y="32184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в годы вой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ание Тубинской начальной шко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Dell\Desktop\первая школа.jpeg"/>
          <p:cNvPicPr/>
          <p:nvPr/>
        </p:nvPicPr>
        <p:blipFill>
          <a:blip r:embed="rId1"/>
          <a:stretch/>
        </p:blipFill>
        <p:spPr>
          <a:xfrm>
            <a:off x="324000" y="2060640"/>
            <a:ext cx="3930480" cy="2597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8"/>
          <p:cNvSpPr/>
          <p:nvPr/>
        </p:nvSpPr>
        <p:spPr>
          <a:xfrm>
            <a:off x="4211640" y="1125360"/>
            <a:ext cx="45720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инает Коробко Клавдия Степановна: «Чтобы в школе было тепло, мы сами заготавливали дрова и возили на санках. Бумаги для письма не было, писали в книгах между строк, вместо ручки - палочка с привязанным перышком. Чернила  делали сами из свеклы  и сажи. После школы помогали колхозу, скирдовали солому, возили зерно на быках, младшие ребятишки с корзинами и ведрами отправлялись на сбор колосков вручную». Многие ученики вынуждены были бросать школу, так как нужно было помогать фрон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порт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97040" y="1268280"/>
            <a:ext cx="421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езидиума Верховного Совета СССР от 28 августа 1941 г. о массовой депортации немцев. Вот так в наши деревни прибыли на поселение более 30 семей: Эбель, Вунш, Ганс, Бауэр, Гафнер, Вуккерт, Линдт, Горнштейн, Шнайдер, Абих, Беккер, Заурвайн, Гейнц, Биркле и д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11280" y="1028880"/>
            <a:ext cx="3074760" cy="245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1619280" y="3500280"/>
            <a:ext cx="3240000" cy="27511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"/>
          <p:cNvSpPr/>
          <p:nvPr/>
        </p:nvSpPr>
        <p:spPr>
          <a:xfrm>
            <a:off x="660240" y="3429000"/>
            <a:ext cx="302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ндрей Андреевич Линдт с семь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2563920" y="6097680"/>
            <a:ext cx="426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я Яковлевна Вуккерт со своими род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"Все для фронта. Все для победы!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мере за 23 февраля 1943 года районная газета "Знамя Ильича"пишет: "Трудящиеся нашего района отправили на фронт 1875 полушубков, 729 меховых жилетов, 6288 пар валенок, 160 пар теплого белья, 783 шапки-ушанки.3 млн.872 тысячи рублей внесено на строительство танковых колонн "Красноярский колхозник", и"Красноярский рабочий"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земляки  проявили  героизм на фронте и в тылу. Все они  жили единой мыслью: «Все для фронта, все для победы!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торию Великой Отечественной войны навечно вписаны имена наших земляков, которые ценой своей жизни победу " приближали как могли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ад наших земляков участников войны и тружеников тыла в победу был значитель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году наша страна будет отмечать 75-летие великой Победы советского народа над фашизмом. Победа досталась очень дорогой ценой. Весь народ встал на защиту своей Родины: мужчины ушли воевать, в тылу остались женщины, дети, старики. На их плечи легла вся тяжесть труда, они заменили своих отцов, братьев, мужей, ушедших на фронт. Уже нет в живых тех, кто завоевал Победу, остается все меньше тех, кто трудился в тыл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о время задуматься о причинах той великой Победы, о цене, за нее заплаченной. Чтобы  вместе с военным поколением не ушла память о героическом и трагическом времени мы должны сохранить эту память. Мы должны гордиться своей Родиной и знать, о том, что Победа ковалась не только на фронте, но и в тылу. "Никакая сильная армия не может победить врага, если у нее нет надежного тыла" так говорил М.И Кутуз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тельской работ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учить вклад наших земляков, участников Великой Отечественной войны и тружеников тыла в дело Великой Побе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брать и проанализировать материал, об участниках ВОВ, призванных  с территории Ново-Ивановского сельского сове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характеризовать положение Тубинского совхоза в период Великой Отечественной войн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вести беседы с нашими земляками - тружениками ты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общить информацию о том, какой вклад внесли наши земляки в дело Поб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аши земляки, участники ВОВ, труженики ты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клад военнослужащих и тружеников тыла в дело Поб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беда в Великой Отечественной войне - это подвиг солдат и тружеников  ты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зна изучаемой проблем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в том, что до этого момента не делались попытки систематизировать информацию о том, какой вклад внесли наши земляки в дело Поб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риалы исследовательской работы могут  быть использованы на классных часах, посвященных 75-летию Великой Поб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земляки на фронтах Великой Отечественной войны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годы войны 5700 человек из Краснотуранского района были призваны в ряды действующей армии. Лишь 1262 солдат вернулись с полей сраж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фронт ушло все мужское население Тубинского совхоз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4 человек в скорбном списке не вернувшихся с вой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ды наших земля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человек                 орден Красной Звезд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еловека              орден Слав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еловек                 орден  Красного Знамен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человек               медаль "За отвагу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человек                 медаль "За боевые заслуги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грады наших земля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енко Андрей Емельянович 1923г.р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Медаль «За отвагу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Орден Красной Звез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ден Славы III степ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рков Федор Иванович 1908 г.р ( погиб в 1943г.)</a:t>
            </a:r>
            <a:r>
              <a:rPr b="0" lang="ru-RU" sz="2400" spc="-1" strike="noStrike">
                <a:solidFill>
                  <a:srgbClr val="4e5154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даль «За отвагу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ец Григорий Иванович  1925г.р (погиб 31 января1945г.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даль «За отвагу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ден Красной Звез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овченко Иван Евгеньевич 1926 г.р (погиб 23 августа 1944 г.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ден Красной Звез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даль «За отваг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клад тружеников тыла в дело Победы     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ярки Александра Лихачева, Евдокия Веретено и Елена Бережная взяли на себя обязанности старших гуртоправов, а Евдокия Федоровна Медведева возглавила ферму №2 . Их мужья-фронтовики знали, что женщины не подведут. И они действительно не подвели. Ферма годовой план хлебосдачи выполнила успешно, а задания по мясу и молоку реализовало на 16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ченко Елена Емельяновна: «Дояркам  днем приходилось работать и в поле, т.к. по указу управляющей Медведевой Е.Ф. хлеб выдавался только той доярке, которая выкосит 25 соток овса за день. За это получали 300 г хлеба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клад тружеников тыла в дело Поб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Ирина\Desktop\исследовательские работы\Анфуза.jpeg"/>
          <p:cNvPicPr/>
          <p:nvPr/>
        </p:nvPicPr>
        <p:blipFill>
          <a:blip r:embed="rId1"/>
          <a:stretch/>
        </p:blipFill>
        <p:spPr>
          <a:xfrm>
            <a:off x="665280" y="1487520"/>
            <a:ext cx="3138480" cy="75042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3971880" y="148428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зобина Анфуза Дмитриевна после окончания 7 классов стала трактористкой. За работу в годы войны Анфуза Дмитриевна была награждена медалью «За трудовую           доблесть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21-04-07T06:42:45Z</dcterms:modified>
  <cp:revision>30</cp:revision>
  <dc:subject/>
  <dc:title>Слайд 1</dc:title>
</cp:coreProperties>
</file>