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wmf" ContentType="image/x-wmf"/>
  <Override PartName="/ppt/media/image7.png" ContentType="image/png"/>
  <Override PartName="/ppt/media/image1.jpeg" ContentType="image/jpeg"/>
  <Override PartName="/ppt/media/image8.jpeg" ContentType="image/jpeg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4A6B-71F6-4DEA-93B0-07046212A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F45E-1FAC-4D5A-B5C3-C0CB7C4E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80B5-DB44-469C-ADB1-2616B6E8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8AA8-A333-4797-AA43-266CD96A7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901B-31F5-40A3-BC58-F2A894E9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8DBD-A8C8-40BE-938D-EAE88F9D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A7BE-553F-4957-9615-0F2F6143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4450-F8EE-413D-9316-D987400D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2B76-7B19-4854-9624-8E910B0D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F4B0-B67B-4C3D-8CA8-846E1103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ECFE-5992-4AEF-BA24-30C71522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ADAB-EC97-492B-93F0-D44BE4DA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4F75-6AB8-49D6-A6D2-2CE7408E11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979640" y="-1731600"/>
            <a:ext cx="6450120" cy="81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ctr">
            <a:spAutoFit/>
          </a:bodyPr>
          <a:p>
            <a:pPr algn="ctr"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инация - «Мой земляк-участник Великой Отечественной войн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тельск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Семейная реликвия как часть военной истории кра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у выполнил: Воробьев Макс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к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Тубин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3322800" cy="20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градной лис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Медаль за отвагу»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3 мая 1945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Приложение 5"/>
          <p:cNvPicPr/>
          <p:nvPr/>
        </p:nvPicPr>
        <p:blipFill>
          <a:blip r:embed="rId1"/>
          <a:stretch/>
        </p:blipFill>
        <p:spPr>
          <a:xfrm>
            <a:off x="3995640" y="476280"/>
            <a:ext cx="45752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p_1c31e85d"/>
          <p:cNvPicPr/>
          <p:nvPr/>
        </p:nvPicPr>
        <p:blipFill>
          <a:blip r:embed="rId1"/>
          <a:stretch/>
        </p:blipFill>
        <p:spPr>
          <a:xfrm>
            <a:off x="5796000" y="620640"/>
            <a:ext cx="2571840" cy="5040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Приложение 6"/>
          <p:cNvPicPr/>
          <p:nvPr/>
        </p:nvPicPr>
        <p:blipFill>
          <a:blip r:embed="rId2"/>
          <a:srcRect l="5182" t="8666" r="3922" b="9964"/>
          <a:stretch/>
        </p:blipFill>
        <p:spPr>
          <a:xfrm>
            <a:off x="539640" y="620640"/>
            <a:ext cx="5040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DSCN8323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Приложение 7-1"/>
          <p:cNvPicPr/>
          <p:nvPr/>
        </p:nvPicPr>
        <p:blipFill>
          <a:blip r:embed="rId1"/>
          <a:srcRect l="3029" t="9875" r="12136" b="18388"/>
          <a:stretch/>
        </p:blipFill>
        <p:spPr>
          <a:xfrm>
            <a:off x="324000" y="260280"/>
            <a:ext cx="84960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24588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даль «За взятие Кенигсберга»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даль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За победу над Германие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Приложение 8"/>
          <p:cNvPicPr/>
          <p:nvPr/>
        </p:nvPicPr>
        <p:blipFill>
          <a:blip r:embed="rId1"/>
          <a:stretch/>
        </p:blipFill>
        <p:spPr>
          <a:xfrm>
            <a:off x="3635280" y="404640"/>
            <a:ext cx="5042160" cy="59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1341360"/>
            <a:ext cx="224316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рта Восточной Прусси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прель 1945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Приложение 9"/>
          <p:cNvPicPr/>
          <p:nvPr/>
        </p:nvPicPr>
        <p:blipFill>
          <a:blip r:embed="rId1"/>
          <a:stretch/>
        </p:blipFill>
        <p:spPr>
          <a:xfrm>
            <a:off x="3276720" y="476280"/>
            <a:ext cx="53528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1424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2071800"/>
            <a:ext cx="6400800" cy="35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не удалось поближе познакомиться с биографией моего прадеда Старинского Владимира Семенович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следить его боевой пу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лагодаря семейным архивам и воспоминаниям бабушки узнать историю появления военного бинок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"/>
          <p:cNvSpPr/>
          <p:nvPr/>
        </p:nvSpPr>
        <p:spPr>
          <a:xfrm>
            <a:off x="1187280" y="418320"/>
            <a:ext cx="756144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015 году  отмечалась знаменательная дата - 70-летие Великой Победы. Вся страна готовилась к юбилею. Вот и в нашей школе была организована выставка «Мой прадед на войне». Мы собирали для этой выставки награды, документы, предметы военных лет. Ведь практически в каждой семье есть вещи, так или иначе связанные с событиями войны. В нашей семье бережно хранятся реликвии связанные с военным прошлым моего прадеда, одна из них - военный бинокль. История появления этого бинокля меня очень заинтересовала, я решил об этом узнать подробне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анной темы заключается в том,     что, изучая  историю семейной реликвии, мы тем самым способствуем сохранению памяти о военном прошлом жителей нашего кр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755640" y="516960"/>
            <a:ext cx="819468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 рабо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учение истории семейной реликвии, как части военной истории кр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Изучить биографию моего праде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 Проследить боевой путь моего праде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Узнать историю появления бинокля в нашей сем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ъект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ния – военное прошлое моей семь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сследования –  военный бинок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потез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в военных реликвиях  большой исторический  материал  не только семьи, но и  страны. Это нить, которая связывает нас с прошлым, настоящим и будущ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856800" y="999720"/>
            <a:ext cx="30085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ринский Владимир  Семе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E:\победа\Воробьев Максим мой прадед\DSCN8097.JPG"/>
          <p:cNvPicPr/>
          <p:nvPr/>
        </p:nvPicPr>
        <p:blipFill>
          <a:blip r:embed="rId1"/>
          <a:srcRect l="0" t="1380" r="3081" b="0"/>
          <a:stretch/>
        </p:blipFill>
        <p:spPr>
          <a:xfrm>
            <a:off x="4643280" y="714240"/>
            <a:ext cx="350208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000" y="1557360"/>
            <a:ext cx="3106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идетельство об окончании начальной школ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юнь 1937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4211640" y="404640"/>
            <a:ext cx="42703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38988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идетельство об окончании неполной средней школ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юнь 1940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4427640" y="404640"/>
            <a:ext cx="42656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4"/>
          <p:cNvGraphicFramePr/>
          <p:nvPr/>
        </p:nvGraphicFramePr>
        <p:xfrm>
          <a:off x="395280" y="260280"/>
          <a:ext cx="8424720" cy="632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8424720" cy="632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765000"/>
            <a:ext cx="375444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ейтенант Старинский Владимир Семенович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андир минометного взвода 1124 стрелкового ордена Ал. Невского полка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й 1945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rcRect l="21914" t="6198" r="35929" b="32555"/>
          <a:stretch/>
        </p:blipFill>
        <p:spPr>
          <a:xfrm>
            <a:off x="4572000" y="765000"/>
            <a:ext cx="3933720" cy="56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26017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ставление к ордену «Красной звезды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1 мая 1945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Приложение 4"/>
          <p:cNvPicPr/>
          <p:nvPr/>
        </p:nvPicPr>
        <p:blipFill>
          <a:blip r:embed="rId1"/>
          <a:stretch/>
        </p:blipFill>
        <p:spPr>
          <a:xfrm>
            <a:off x="3924360" y="476280"/>
            <a:ext cx="45194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P</cp:lastModifiedBy>
  <dcterms:modified xsi:type="dcterms:W3CDTF">2019-04-04T07:53:16Z</dcterms:modified>
  <cp:revision>17</cp:revision>
  <dc:subject/>
  <dc:title>Слайд 1</dc:title>
</cp:coreProperties>
</file>